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comments/comment19.xml" ContentType="application/vnd.openxmlformats-officedocument.presentationml.comments+xml"/>
  <Override PartName="/ppt/comments/comment23.xml" ContentType="application/vnd.openxmlformats-officedocument.presentationml.comments+xml"/>
  <Override PartName="/ppt/comments/comment37.xml" ContentType="application/vnd.openxmlformats-officedocument.presentationml.comments+xml"/>
  <Override PartName="/ppt/comments/comment35.xml" ContentType="application/vnd.openxmlformats-officedocument.presentationml.comments+xml"/>
  <Override PartName="/ppt/comments/comment36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Pang Dong" initials="PD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<Relationship Id="rId43" Type="http://schemas.openxmlformats.org/officeDocument/2006/relationships/commentAuthors" Target="commentAuthors.xml"/>
</Relationships>
</file>

<file path=ppt/comments/comment19.xml><?xml version="1.0" encoding="utf-8"?>
<p:cmLst xmlns:p="http://schemas.openxmlformats.org/presentationml/2006/main">
  <p:cm authorId="0" dt="2015-04-24T09:22:52.912000000" idx="1">
    <p:pos x="5649" y="2223"/>
    <p:text>适当把文本框加宽，让一句话尽量在一行内出现</p:text>
  </p:cm>
</p:cmLst>
</file>

<file path=ppt/comments/comment23.xml><?xml version="1.0" encoding="utf-8"?>
<p:cmLst xmlns:p="http://schemas.openxmlformats.org/presentationml/2006/main">
  <p:cm authorId="0" dt="2015-04-24T09:23:39.286000000" idx="2">
    <p:pos x="5346" y="2681"/>
    <p:text>这种情况下，尽量把术后护理另起一页</p:text>
  </p:cm>
</p:cmLst>
</file>

<file path=ppt/comments/comment35.xml><?xml version="1.0" encoding="utf-8"?>
<p:cmLst xmlns:p="http://schemas.openxmlformats.org/presentationml/2006/main">
  <p:cm authorId="0" dt="2015-04-24T09:25:10.281000000" idx="3">
    <p:pos x="1241" y="886"/>
    <p:text>删除编号</p:text>
  </p:cm>
</p:cmLst>
</file>

<file path=ppt/comments/comment36.xml><?xml version="1.0" encoding="utf-8"?>
<p:cmLst xmlns:p="http://schemas.openxmlformats.org/presentationml/2006/main">
  <p:cm authorId="0" dt="2015-04-24T09:25:45.776000000" idx="4">
    <p:pos x="1137" y="886"/>
    <p:text>删除编号</p:text>
  </p:cm>
</p:cmLst>
</file>

<file path=ppt/comments/comment37.xml><?xml version="1.0" encoding="utf-8"?>
<p:cmLst xmlns:p="http://schemas.openxmlformats.org/presentationml/2006/main">
  <p:cm authorId="0" dt="2015-04-24T09:25:29.547000000" idx="5">
    <p:pos x="1241" y="886"/>
    <p:text>删除编号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F7D0E-7940-417F-B963-152A182D9EC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0C8FC-0B6A-4545-8413-1CA5FBE23FDE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A5D69-0BC7-4EB7-8384-4E64DAD44FCE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69ED8-06F9-4F2E-86FC-38C53E02D80D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65C9D-A57F-43EF-AA4B-5B6B16FF59A8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EB8DF-93E1-46FD-BF47-045AFC99FC00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4EC2B-E8C1-4F5A-8584-015F80F819C5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D80CD-67D4-4882-8858-F3B08C2BEC3A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E12D6-C9C7-4667-B21C-4F5B1A2E0BB8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E88FF-E57F-4334-9D40-374D411BC165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29D3E-1D6B-492D-A776-1B7AE31AAE07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E3A00-6ACF-4C2F-B31B-C8A93B97743E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FD4AF-BB2C-4B59-9363-8B180F4BDE25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123E1-E16E-4551-9C5B-9296121E1D6D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5799B-3B1C-45C2-82ED-B5A8732B9B19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39015-4353-4183-B6BD-9E0162263AB2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6BDAE-053B-45AB-9172-E0726093F52A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24338-C681-4973-B803-2DF23AD244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33DF3-8FDA-42E4-91D4-EF5C68762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5ECFB-E90B-4670-9351-C766A5F6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86C84-46F3-4872-8EE6-66F7730A86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4604A-3804-4E11-9EAA-E2F04E44D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743D6-2A03-47DA-95F3-90476FB99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4DFC2-9E9E-4489-A5A1-6B576AAC4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7AD9A-6A3F-4745-890F-40F472CAA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7CCD2-1F5E-4C50-A5DF-3FA476DCD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1E7A0-FB4B-4ABF-BD81-844B4A25C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A6645-BEB9-45B6-BEA8-0206BDCB2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698C8-C48C-48AE-8092-26944E455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40911-1CDE-4837-87AD-8673C53F999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6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7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三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乳房疾病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热敷、药物外敷或理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降温和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抗生素，高热者给予物理或药物降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脓肿切开引流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引流通畅，注意观察引流液的颜色、性质和量的变化，及时更换浸湿敷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乳头凹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养成良好哺乳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乳头破损或皲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reast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女性最常见的恶性肿瘤之一，占全身恶性肿瘤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％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％，仅次于子宫颈癌，发病呈逐年上升的趋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3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发现右乳无痛性肿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右乳房外上方可见一个局部皮肤凹陷，右侧乳头略高于左侧乳头。右乳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点处距乳头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部位可触及一直径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cm×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肿块，表面不光滑、质硬、无压痛，不易推动，与乳房皮肤无粘连，无乳头溢液。右侧腋窝可扪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5cm×1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肿块，表面光滑，可活动，质地较硬。左乳未触及肿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右乳房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4cm×1.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的肿块影，边缘有细小毛刺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针吸细胞学检查：浸润性低分化导管癌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为无痛、单发的小肿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外形改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累及乳房悬韧带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oop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韧带）可使之缩短，引起乳房表面皮肤凹陷，形成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酒窝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当癌肿继续增大，癌细胞可阻塞于皮下、皮内淋巴管引起局部淋巴水肿，由于皮肤在毛囊处与皮下组织连接紧密，毛囊处出现凹陷，皮肤出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橘皮样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改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50560" y="1196640"/>
            <a:ext cx="878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晚期征象及转移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卫星结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消瘦、乏力、贫血、发热等恶病质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特殊乳癌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炎性乳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inflammatory breast carcinom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头湿疹样乳腺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aget’s carcinoma of breas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钼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目前早期发现乳腺癌最有效的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近红外线扫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组织病理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确定肿块性质最可靠的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经婚育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习惯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50560" y="119664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扩大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xtensive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改良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odified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乳房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ot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留乳房的乳腺癌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lumpectomy and axillary dissectio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急性乳腺炎发病的相关因素、临床表现、治疗原则和预防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乳腺癌发病的相关因素、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乳腺囊性增生症的病因、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乳腺癌患者出现酒窝征、橘皮征的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乳房疾病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药物治疗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emotherap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、多疗程、联合化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adiotherap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于保留乳房的乳腺癌手术后患者更是重要的治疗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分泌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3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乳腺癌，在经历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疗程的术前化疗后，肿块明显缩小，现拟行右乳腺癌改良根治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乳癌根治术切除乳房、术后瘢痕形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卫生、如厕）自理缺陷 与术后患侧上肢活动受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、患侧上肢水肿（淋巴水肿）、皮下积液、皮瓣坏死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停止妊娠或哺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下进行手术，术后应去枕平卧，头偏向一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下进行手术，术后应去枕平卧，头偏向一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加压包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引流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止脱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侧上肢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预防性抬高患侧上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就可以开始腕部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后开始肘部活动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上举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外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待腋下引流管拔除之后，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可教患者逐渐作上臂的全范围关节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50920" y="1196640"/>
            <a:ext cx="417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范围关节活动包括手臂摇摆运动、爬墙运动、划圈运动、滑轮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4427640" y="1197000"/>
            <a:ext cx="4492440" cy="45450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8"/>
          <p:cNvSpPr/>
          <p:nvPr/>
        </p:nvSpPr>
        <p:spPr>
          <a:xfrm>
            <a:off x="5265720" y="5886360"/>
            <a:ext cx="281772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上臂全范围关节活动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患侧上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坚持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坚持乳房自我检查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reast self-examina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S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视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触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br>
              <a:rPr sz="5400"/>
            </a:b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腺囊性增生病是乳腺实质的良性增生性疾病，多见于中年女性。本病与卵巢功能失调引起的激素分泌紊乱有关，造成乳腺实质增生过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胀痛：周期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组织病理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是对症治疗，常用中药或中成药调理，如口服中药逍遥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局限性乳腺囊性增生症患者，应在月经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内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局部病灶有恶性病变可能时，应尽早手术切除肿块并做病理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与腺体增生及雌激素水平增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用宽松胸罩托起乳房，以减轻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观察病情变化，定期进行乳房自我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乳腺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主要为乳汁淤积和细菌入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早期以乳房局部红肿热痛为主。随着炎症发展，疼痛变为搏动性，后期炎症病灶可发展为乳房脓肿。患者可有全身感染中毒表现，常伴有患侧腋窝淋巴结肿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 控制感染，排空乳汁，脓肿形成后应切开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减轻疼痛，降温和控制感染。做好脓肿切开引流护理。预防的关键是纠正乳头凹陷，养成良好哺乳习惯，并预防乳头破损或皲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  病因不明，相关因素有内分泌、饮食、遗传、环境和生活方式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  早期表现为单发乳房肿块，无痛、质硬、活动度差、边界不清。可有乳房外形改变。淋巴转移常导致患侧腋窝淋巴结肿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  以手术治疗为主，辅以化疗、放疗、内分泌治疗等综合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  术前应关注患者的心理反应。术后注意观察伤口及引流情况，及时发现出血、患侧上肢水肿、皮瓣下积液、皮瓣坏死等并发症，加强患侧上肢功能锻炼，恢复患者的自理能力。另外，应指导健康女性以及患者进行乳房自我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腺囊性增生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为内分泌失调引起乳腺实质过度增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乳房周期性胀痛和乳房肿块为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为对症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解释说明，消除患者心理顾虑。减轻乳房胀痛。遵医嘱服用药物。定期检查和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乳腺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cute mast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乳腺的急性化脓性感染，多见于产后哺乳妇女，初产妇更为多见，发病多在产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  ：乳房胀痛，有压痛性肿块，常伴有患侧腋窝淋巴结肿大和触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：寒战、高热、脉搏加快、食欲下降等全身感染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常规可见白细胞计数及中性粒细胞比例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穿刺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刺抽出脓液可确诊脓肿形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哺乳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头过小或凹陷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汁过多或婴儿吸乳过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头破损或皲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烦躁、焦虑，并有挫败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空乳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处理脓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乳房炎症、肿胀、脓肿切开引流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细菌或细菌毒素进入血液循环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围产期乳房保健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8:52:08Z</dcterms:modified>
  <cp:revision>97</cp:revision>
  <dc:subject/>
  <dc:title>内科护理学</dc:title>
</cp:coreProperties>
</file>